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E3E-E82F-4E5B-87A6-1E6EC6ED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722-3E3D-46BA-9F71-5FEA38DF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D57-8252-497D-AC99-E673F913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341-A8D3-470D-83C3-361F443A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849-BEF7-4ED4-A0E2-9BF9698F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0CD-CA27-4A69-93E2-961FFE53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504-25AA-4E2E-8E3F-D267CB7B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233-FCEA-48ED-9932-4FA7B31E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9B7-5825-499E-B55A-0B6FBB13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1FD-1E74-4CD7-B2B1-D03E1240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834-8327-46A7-B478-A0D644DD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9C1-E699-4CE5-B0D1-1C1DB04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E84D-F882-4092-849E-11A515360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for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648320"/>
            <a:ext cx="3810240" cy="1252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alysis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atifie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matic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705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13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84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924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9246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213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43000" y="1371600"/>
            <a:ext cx="7162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nother Analysis O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7162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724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407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16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14400" y="2768760"/>
            <a:ext cx="7162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467480" cy="11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67480" cy="117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3124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924680" cy="2819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19920" y="5486400"/>
            <a:ext cx="2006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924680" cy="303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924680" cy="365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2133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08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781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6T16:05:41Z</dcterms:modified>
  <cp:revision>109</cp:revision>
  <dc:subject/>
  <dc:title>The Art in the State of the Art</dc:title>
</cp:coreProperties>
</file>